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D35A-50A1-4C91-8296-DE1D8D205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9365-6026-4335-8217-D7A7A88159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s in ~ 50% of infants born between 28-32 weeks ge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ly related to premat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3A27-D9B0-4B24-BDCA-7F222F759E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C581-A246-4003-97E0-A3356C0348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043D-CEC4-4D89-8B3E-BE4C12B17B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S, H influenza pneu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6CE8-546E-458D-839F-EA6351BACB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ria, 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C76E-A2DB-402D-9171-4B93DEECFC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coli pneu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EDB5-D39A-4A63-91FF-AFDBE25AD0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hyxia causes anal sphincter to relax, also leads to gasping respiratory eff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ery concerned about pulmonary hypertension, as this is also a fetal response to asphyx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F4E2-6CE7-4221-8910-589B2E3C9E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C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BC7C-F47A-4E37-8E05-16FADDF411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delivery pulmonary vascular resistance plummets, in order to establish pulmonary blood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kids with PPHN, they never drop their resistance, leading in the worst case to a right to left shunt at the ductal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7A58-405D-42ED-920A-9329CAEAAC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blood flow:  caused by compression of the pulmonary capillaries by fetal lung fl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monary arteries:  thick muscular layer present, very reactive to hypox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fluid: fetal lungs secrete fluid, adequate lung volume is necessary for fetal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tal breathing: contributes to fetal lung development, moves fluid in and out of fetal 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tant: necessary amount to support breathing after birth, present after ~ 34 weeks ge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1CC6-BD7B-4CC3-B4E0-AB0EAE78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F07-A973-4AAC-B652-3F0720DB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191-444D-4E1A-A3E1-DB8862F7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445-56BE-4C6D-BEB6-815530D6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A708-AF4D-41EB-809A-638FA3E8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4AF6-BBB1-4465-973F-E5A1A963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F282-DA2F-4A01-A18B-3956ECB1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E96D-0A37-435C-8CB4-8AC5D99C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50B1-E23E-4B29-AB2E-E6F4C846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6D51-FB28-45E7-BF81-4C7288D5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287F-91B9-4D6A-9D64-51A9B471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A48E-7CFD-46B2-9224-43F961F8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079F-80E2-42D9-B521-1C01C279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E854-D430-47E7-A120-D607545A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CA4E-A48B-43C6-B5C3-7D2717D8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7D51-24BE-4723-8966-2CA9FCBC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0C56-3632-46F8-B382-C72A472E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D77D-853C-43AB-BEB5-13CBDD0A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FC9E-A231-4EE1-9C90-432DDD5E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B48-9D84-47FA-8E31-F95F580F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98B-8BEB-4390-ADF1-3AD8A29A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3388-52AF-46C2-998E-BB4CF98E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BB71-8F76-4C4A-9C86-DF9F1BD6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AD3-824C-4313-A461-0CA6A358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E990-25FD-407A-A21E-4A9B3BFC4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B053-BD1C-4AC8-97B8-A0172CC82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hildrenshospitaloakland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onatal Respiratory Distr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scilla Joe, M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’s Hospital and Research Center at Oak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Children's Hospital Oakland 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895480"/>
            <a:ext cx="25714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5B80-6231-4538-9A82-6AAE99C24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E3E5-3588-49C0-BC88-DC8F3AEBD7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Risk Fa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atur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born tw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-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casian 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surfactant deficienc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nal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hy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neumo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hemorrh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onium aspi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tox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2E13-82B7-4DB0-B65A-F2E995773A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specific finding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E6CE-1A9E-4E14-9451-9D3669AD44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3" descr="rds"/>
          <p:cNvPicPr/>
          <p:nvPr/>
        </p:nvPicPr>
        <p:blipFill>
          <a:blip r:embed="rId1"/>
          <a:stretch/>
        </p:blipFill>
        <p:spPr>
          <a:xfrm>
            <a:off x="1981080" y="762120"/>
            <a:ext cx="51148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58F4-41AF-4777-B4ED-BA46BE9C62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Radi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veolar disea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use reticular granular or “ground glass”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bronch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a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B664-6988-4800-9ECB-0BC921FD5D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 FRC (CPAP vs. intub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genous surfac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anta 4cc/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asurf 3cc/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338D-0543-4874-922A-9E4A9F1330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Surfactant Therapy for RD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mort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est benefit when used with antenatal stero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ment in compliance, functional residual capacity, and oxyge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incidence of air l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CA02-E413-4F74-BA7F-7D7248B6C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genital Pneumo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organis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B streptococ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Coli, Klebsi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lamydia, Ureaplasma, mycoplas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. Influenza (nontype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111D-661D-4F0E-87CE-B32B28413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Risk Fa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ernal chorioamnion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rupture of memb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at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natal exposures: Poor hand washing, open skin lesions, contaminated blood products, infected breast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E829-FF1D-4FBA-9EE7-35E72D3023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mmation and ed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nchial pl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in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veolar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ilation/perfusion mism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at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EAE7-787E-48EE-8098-272DA29255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onatal Respirator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per airway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parenchym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leak syndr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ders of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pulmonary vascular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6311-122B-495B-93BA-D8CAA41A1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s with non-specific finding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6E1C-0E27-4CDE-9945-6698FEFAD2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Radi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no classic x-ray findings, in fact, the X-ray in pneumonia can look like an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rly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for 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7B2C-BEB6-4B82-8BF0-62EEBD60B6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2" descr="2744img0001"/>
          <p:cNvPicPr/>
          <p:nvPr/>
        </p:nvPicPr>
        <p:blipFill>
          <a:blip r:embed="rId1"/>
          <a:stretch/>
        </p:blipFill>
        <p:spPr>
          <a:xfrm>
            <a:off x="930240" y="457200"/>
            <a:ext cx="723888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68C4-777A-47C8-ADDF-129CAAE52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4" descr="2744img0002"/>
          <p:cNvPicPr/>
          <p:nvPr/>
        </p:nvPicPr>
        <p:blipFill>
          <a:blip r:embed="rId1"/>
          <a:stretch/>
        </p:blipFill>
        <p:spPr>
          <a:xfrm>
            <a:off x="1066680" y="574560"/>
            <a:ext cx="693432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7438-3DC4-44C8-9900-4DB93C8A72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4" descr="2744img0003"/>
          <p:cNvPicPr/>
          <p:nvPr/>
        </p:nvPicPr>
        <p:blipFill>
          <a:blip r:embed="rId1"/>
          <a:stretch/>
        </p:blipFill>
        <p:spPr>
          <a:xfrm>
            <a:off x="1828800" y="8380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9C36-281F-4A3D-8857-D0BE2E60EF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support as indicated with either O2 or positiv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 with appropriate antimicrob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ampicillin/gentamicin or ampicillin/cefotax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er spectrum antibiotics for nosocomial bacter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16C3-ED85-48A3-B607-1C784740F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 Syndr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onium contains epithelial cells and bile sa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ased with intrauterine stress or asphy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 in 15% of all newborn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5-10% develop 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D0F9-8257-4F46-B197-F26D8AE53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way plugging, with air tr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, leading to inactivation of surfac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tant inactivation leads to decreased compliance, and alveolar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veolar collapse = loss of FR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FRC = V/Q mism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/Q mismatch = desat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E904-EAAB-4DDC-8AB0-23C93F0637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: Xr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s of hyperexpansion mixed with patchy densities and atelec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M009345968_MecAspiration_1_1.jpg"/>
          <p:cNvPicPr/>
          <p:nvPr/>
        </p:nvPicPr>
        <p:blipFill>
          <a:blip r:embed="rId1"/>
          <a:stretch/>
        </p:blipFill>
        <p:spPr>
          <a:xfrm>
            <a:off x="1828800" y="2971800"/>
            <a:ext cx="472428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1205-F32E-4800-BCEC-0A22DDF766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occur spontaneously during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ommon when receiving positiv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occupying lesion within the chest displacing lung, and if under tension, compromising venous re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28E3-7144-4ED2-974C-BE9E6F7B80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pper Airwa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anal atr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rre Robin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scular 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7AA2-C669-4B47-8D20-B38A60706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s with non-specific sign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qual, decreased breath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8B3C-298F-4554-8C3C-B4EA24FF49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3" descr="pneumo"/>
          <p:cNvPicPr/>
          <p:nvPr/>
        </p:nvPicPr>
        <p:blipFill>
          <a:blip r:embed="rId1"/>
          <a:stretch/>
        </p:blipFill>
        <p:spPr>
          <a:xfrm>
            <a:off x="1295280" y="685800"/>
            <a:ext cx="6553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D173-984E-478C-B2DD-8D92C149AC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trogen washout (pneumo contains 21% O2, &gt;75% nitrogen, if lung has 100% O2, nitrogen will diffuse out of pneumothora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o avoid positive pressure if 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cuate as needed by thoracentesis or chest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F171-938B-441E-BBF0-6040B34BDA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elopmental disturba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monary hypopl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enital diaphragmatic her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letal deform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4552-0DCD-4D00-9747-FCBE7CEF29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lmonary hypoplas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not be assessed radiographically, pulmonary hypoplasia is a pathologic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spect pulmonary hypoplasia i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pture of membranes with anhydramn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al anoma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 of the chest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enital diaphragmatic her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1483-E522-4606-8A7C-77DFA100A1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aphragmatic Her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phoid abd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wel sounds in the ch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associated anoma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d breath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e hypox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5EA4-7812-4290-B331-4E5AEF459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aphragmatic Her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 range in clinical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niation of bowel leads to altered development of the lungs bilate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05F0-ADBE-4347-9343-F70F35676F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3" descr="cdh"/>
          <p:cNvPicPr/>
          <p:nvPr/>
        </p:nvPicPr>
        <p:blipFill>
          <a:blip r:embed="rId1"/>
          <a:stretch/>
        </p:blipFill>
        <p:spPr>
          <a:xfrm>
            <a:off x="2666880" y="419040"/>
            <a:ext cx="3810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29AD-4EE5-439C-8421-53D2211A8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ersistent Pulmonary Hypertension of the Newbor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pulmonary hypertension is a pure vascular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often present in a mixed picture as in the setting of meconium aspiration syndrome or asphy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26B4-01E6-4837-969C-DCD009D8CD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esponse to an asphyxia event in utero, the fetus diverts all blood flow possible to vital organs (brain/heart/adren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leads to vasoconstriction of non-vital vascular beds, including the pulmonary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deling of smooth muscle can occ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5" name="Content Placeholder 4" descr="Choanal atresia.jpg"/>
          <p:cNvPicPr/>
          <p:nvPr/>
        </p:nvPicPr>
        <p:blipFill>
          <a:blip r:embed="rId1"/>
          <a:stretch/>
        </p:blipFill>
        <p:spPr>
          <a:xfrm>
            <a:off x="838080" y="762120"/>
            <a:ext cx="2876760" cy="4095720"/>
          </a:xfrm>
          <a:prstGeom prst="rect">
            <a:avLst/>
          </a:prstGeom>
          <a:ln w="0">
            <a:noFill/>
          </a:ln>
        </p:spPr>
      </p:pic>
      <p:sp>
        <p:nvSpPr>
          <p:cNvPr id="10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BC0A-D73E-4954-A3F9-7781FC327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Pierre Robin.jpg"/>
          <p:cNvPicPr/>
          <p:nvPr/>
        </p:nvPicPr>
        <p:blipFill>
          <a:blip r:embed="rId2"/>
          <a:stretch/>
        </p:blipFill>
        <p:spPr>
          <a:xfrm>
            <a:off x="4572000" y="5335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Pierre Robin 2.jpg"/>
          <p:cNvPicPr/>
          <p:nvPr/>
        </p:nvPicPr>
        <p:blipFill>
          <a:blip r:embed="rId3"/>
          <a:stretch/>
        </p:blipFill>
        <p:spPr>
          <a:xfrm>
            <a:off x="4572000" y="3124080"/>
            <a:ext cx="3251160" cy="2438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990720" y="5181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anal Atre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876920" y="565776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erre Robin Syndro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4C47-DDD1-4880-9A10-C93013C78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 flipH="1">
            <a:off x="1447200" y="1523880"/>
            <a:ext cx="2361960" cy="381024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5105520" y="1523880"/>
            <a:ext cx="2133360" cy="3810240"/>
          </a:xfrm>
          <a:custGeom>
            <a:avLst/>
            <a:gdLst>
              <a:gd name="textAreaLeft" fmla="*/ 1227240 w 2133360"/>
              <a:gd name="textAreaRight" fmla="*/ 1800360 w 2133360"/>
              <a:gd name="textAreaTop" fmla="*/ 513720 h 3810240"/>
              <a:gd name="textAreaBottom" fmla="*/ 163080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362320" y="1828800"/>
            <a:ext cx="1676160" cy="2057400"/>
          </a:xfrm>
          <a:prstGeom prst="line">
            <a:avLst/>
          </a:prstGeom>
          <a:ln w="76320">
            <a:solidFill>
              <a:srgbClr val="a80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6"/>
          <p:cNvSpPr/>
          <p:nvPr/>
        </p:nvSpPr>
        <p:spPr>
          <a:xfrm flipV="1">
            <a:off x="2438280" y="1828800"/>
            <a:ext cx="1371600" cy="1828800"/>
          </a:xfrm>
          <a:prstGeom prst="line">
            <a:avLst/>
          </a:prstGeom>
          <a:ln w="76320">
            <a:solidFill>
              <a:srgbClr val="a80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657600" y="3657600"/>
            <a:ext cx="1600200" cy="60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2590920" y="5105520"/>
            <a:ext cx="3657600" cy="1295280"/>
          </a:xfrm>
          <a:custGeom>
            <a:avLst/>
            <a:gdLst>
              <a:gd name="textAreaLeft" fmla="*/ 852840 w 3657600"/>
              <a:gd name="textAreaRight" fmla="*/ 2803680 w 3657600"/>
              <a:gd name="textAreaTop" fmla="*/ 136440 h 1295280"/>
              <a:gd name="textAreaBottom" fmla="*/ 820080 h 1295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a804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4419720" y="52578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10"/>
          <p:cNvSpPr/>
          <p:nvPr/>
        </p:nvSpPr>
        <p:spPr>
          <a:xfrm flipV="1" rot="16159800">
            <a:off x="3543120" y="3466800"/>
            <a:ext cx="838080" cy="1371600"/>
          </a:xfrm>
          <a:custGeom>
            <a:avLst/>
            <a:gdLst>
              <a:gd name="textAreaLeft" fmla="*/ 0 w 838080"/>
              <a:gd name="textAreaRight" fmla="*/ 718560 w 838080"/>
              <a:gd name="textAreaTop" fmla="*/ 914760 h 1371600"/>
              <a:gd name="textAreaBottom" fmla="*/ 1372320 h 13716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277800" y="380988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V outf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Oval 12"/>
          <p:cNvSpPr/>
          <p:nvPr/>
        </p:nvSpPr>
        <p:spPr>
          <a:xfrm>
            <a:off x="7696080" y="21337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792468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4"/>
          <p:cNvSpPr/>
          <p:nvPr/>
        </p:nvSpPr>
        <p:spPr>
          <a:xfrm flipH="1">
            <a:off x="7695720" y="30481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5"/>
          <p:cNvSpPr/>
          <p:nvPr/>
        </p:nvSpPr>
        <p:spPr>
          <a:xfrm>
            <a:off x="7924680" y="30481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6"/>
          <p:cNvSpPr/>
          <p:nvPr/>
        </p:nvSpPr>
        <p:spPr>
          <a:xfrm>
            <a:off x="7543800" y="2743200"/>
            <a:ext cx="3808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17"/>
          <p:cNvSpPr/>
          <p:nvPr/>
        </p:nvSpPr>
        <p:spPr>
          <a:xfrm flipV="1">
            <a:off x="7924680" y="2743200"/>
            <a:ext cx="3049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5014440" y="46148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o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3187080" y="461484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449568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4118040" y="2590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6738-EF4C-44B1-8C4E-583B8C7E1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distress with hypo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xemia out of proportion to degree of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pre and post ductal sa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extrem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oxia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3086-80A0-4C9C-91BF-4FB807F2E6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R      L shun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PV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pulmonary blood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o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car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acid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81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R        L shu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PV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pulmonary blood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x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car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 rot="16220400">
            <a:off x="647280" y="952560"/>
            <a:ext cx="106704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6"/>
          <p:cNvSpPr/>
          <p:nvPr/>
        </p:nvSpPr>
        <p:spPr>
          <a:xfrm rot="16220400">
            <a:off x="1333080" y="952560"/>
            <a:ext cx="106704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1523880" y="53352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 flipH="1">
            <a:off x="1219320" y="1143000"/>
            <a:ext cx="304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1523880" y="1143000"/>
            <a:ext cx="304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AutoShape 10"/>
          <p:cNvSpPr/>
          <p:nvPr/>
        </p:nvSpPr>
        <p:spPr>
          <a:xfrm rot="16220400">
            <a:off x="6134040" y="1028160"/>
            <a:ext cx="106668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11"/>
          <p:cNvSpPr/>
          <p:nvPr/>
        </p:nvSpPr>
        <p:spPr>
          <a:xfrm rot="16220400">
            <a:off x="6819840" y="1028160"/>
            <a:ext cx="106668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12"/>
          <p:cNvSpPr/>
          <p:nvPr/>
        </p:nvSpPr>
        <p:spPr>
          <a:xfrm>
            <a:off x="1143000" y="106668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Oval 13"/>
          <p:cNvSpPr/>
          <p:nvPr/>
        </p:nvSpPr>
        <p:spPr>
          <a:xfrm>
            <a:off x="1828800" y="106668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14"/>
          <p:cNvSpPr/>
          <p:nvPr/>
        </p:nvSpPr>
        <p:spPr>
          <a:xfrm>
            <a:off x="7315200" y="114300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Oval 15"/>
          <p:cNvSpPr/>
          <p:nvPr/>
        </p:nvSpPr>
        <p:spPr>
          <a:xfrm>
            <a:off x="6629400" y="114300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AutoShape 16"/>
          <p:cNvSpPr/>
          <p:nvPr/>
        </p:nvSpPr>
        <p:spPr>
          <a:xfrm>
            <a:off x="6629400" y="1752480"/>
            <a:ext cx="762120" cy="685800"/>
          </a:xfrm>
          <a:custGeom>
            <a:avLst/>
            <a:gdLst>
              <a:gd name="textAreaLeft" fmla="*/ 0 w 762120"/>
              <a:gd name="textAreaRight" fmla="*/ 762480 w 762120"/>
              <a:gd name="textAreaTop" fmla="*/ 0 h 685800"/>
              <a:gd name="textAreaBottom" fmla="*/ 244800 h 685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AutoShape 17"/>
          <p:cNvSpPr/>
          <p:nvPr/>
        </p:nvSpPr>
        <p:spPr>
          <a:xfrm flipV="1">
            <a:off x="1143000" y="144720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-360 h 609480"/>
              <a:gd name="textAreaBottom" fmla="*/ 21708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09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8"/>
          <p:cNvSpPr/>
          <p:nvPr/>
        </p:nvSpPr>
        <p:spPr>
          <a:xfrm>
            <a:off x="7010280" y="609480"/>
            <a:ext cx="0" cy="609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 flipH="1">
            <a:off x="6705720" y="1219320"/>
            <a:ext cx="304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7010280" y="1219320"/>
            <a:ext cx="304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3"/>
          <p:cNvSpPr/>
          <p:nvPr/>
        </p:nvSpPr>
        <p:spPr>
          <a:xfrm>
            <a:off x="2133720" y="2514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24"/>
          <p:cNvSpPr/>
          <p:nvPr/>
        </p:nvSpPr>
        <p:spPr>
          <a:xfrm>
            <a:off x="6934320" y="2438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EAAF-BA35-4444-A36B-10188EE98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pulmonary blood fl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well satur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ocar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x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car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ve care: temperature regulation, fluids and lytes, antibio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B065-5DAC-4677-9BEF-12E81A92A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ntional ventilation or HF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ic 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13E9-5A29-4222-8C88-AED5AA99B0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oanal Atresia/Upper Airway Obstr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anotic when quiet or at rest, pink with cr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bility to pass suction catheter through 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EA88-D50F-493B-8792-9FC8FA72D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pper airway obstr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an oral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tion secre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require intub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C420-B4FD-419F-AD9A-EE2FC9F21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tal Lung Character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blood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used by compression of the pulmonary capillaries by fetal lung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ck muscular layer present, very reactive to hypoxe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ng fluid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tal lungs secrete fluid, adequate lung volume is necessary for fetal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tal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ibutes to fetal lung development, moves fluid in and out of fetal l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fac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cessary amount to support breathing after birth, present after ~ 34 weeks ge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7D25-1644-4944-A3A0-BC1BA5342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ns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ance of fetal lung fl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pulmonary blood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4BD4-B1D3-49A2-967B-0CF9AAAA4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spiratory Distress Syndr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of surfactant def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decreases surface tension and improves lung 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e tension: intrinsic tendency for alveoli to collap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6:54:00Z</dcterms:created>
  <dc:creator>Priscilla Joe</dc:creator>
  <dc:description/>
  <dc:language>en-US</dc:language>
  <cp:lastModifiedBy>HCMARTINEZ</cp:lastModifiedBy>
  <dcterms:modified xsi:type="dcterms:W3CDTF">2010-06-02T07:01:53Z</dcterms:modified>
  <cp:revision>41</cp:revision>
  <dc:subject/>
  <dc:title>Neonatal Respiratory Distress</dc:title>
</cp:coreProperties>
</file>